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AA0-EF78-46B3-A536-C3A93793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5D7-8F03-4841-A4B7-8EBCCA73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493-80BC-46C1-9854-8C7B25AA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C1F-5375-47FD-8675-C6A73702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D3A4-3290-483F-984E-04D45337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3D1F-2BC1-49F5-A0AC-0F3DAE9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4F13-587A-4289-83CB-55789AB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4A66-58F8-4422-9778-61C2D7B9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5D1A-6B16-479A-95AF-47A5EC5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59F-C82A-4CCE-9D0C-CC29EF0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737-7C58-4F25-8D15-13777AF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7D1-9564-48BC-B8F2-7C045592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945-3604-4493-AA97-6F1DC35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5303-922F-485A-86E0-A384910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F095-31A3-4580-BFA2-94D5510E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A665-44AA-4E7C-BE18-9CB892D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AF0-B536-4727-B984-C80C961E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3A6-08CC-4B9D-B250-5C5D9DD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4A5-E692-4DAC-A949-F2720C81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D24-D06D-4643-AB74-8A297200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271-9979-42BF-A12B-129C133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0CE-68E2-4DB9-A2AB-776E15F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D66-AC9B-467C-BFFF-2E2A29A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04B-36B8-4889-AF03-FC744B54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545-AB5E-458A-B88F-8EBE0B2DD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578B-CCC9-44BE-8D97-F997E0F61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eibowitz,_Samuel_&amp;_Scottsboro_Boys_193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tterson,_Haywood_C193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cottsboro_Mob_193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ates,_Ruby_&amp;_Victoria_Pric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Scottsboro Boys</a:t>
            </a:r>
            <a:br>
              <a:rPr sz="5200"/>
            </a:b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Part I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250px-Leibowitz%2C_Samuel_%26_Scottsboro_Boys_19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0930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Scottsboro Boys </a:t>
            </a:r>
            <a:br>
              <a:rPr sz="5200"/>
            </a:b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Part II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Supreme Court Steps 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32 the Supreme Court ruled in Powell v. Alabama that the trials were invalidated because they did not have proper representation from a law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IMG_1700"/>
          <p:cNvPicPr/>
          <p:nvPr/>
        </p:nvPicPr>
        <p:blipFill>
          <a:blip r:embed="rId1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914400" y="4191120"/>
            <a:ext cx="3505320" cy="2361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434340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do you predict the Alabama courts will do nex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New Tr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ywood Patterson was given a new t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uel Leibowitz heard of the injustices and offered to defend Patt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women, Ruby Bates, retracted her testimony, and a doctor testified there was no evidence of rap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80px-Patterson%2C_Haywood_C1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0840" y="0"/>
            <a:ext cx="1073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Verdi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ry found Patterson guil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dge threw out the case because he claimed that there was not enough evidence for the jury to convict hi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is tried again but this time with another boy, Clarence Norr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convicted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enced to the electric chai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times” -- Nor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Clarence Norris on the stand"/>
          <p:cNvPicPr/>
          <p:nvPr/>
        </p:nvPicPr>
        <p:blipFill>
          <a:blip r:embed="rId1"/>
          <a:stretch/>
        </p:blipFill>
        <p:spPr>
          <a:xfrm>
            <a:off x="6934320" y="4267080"/>
            <a:ext cx="1962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Supreme Court Steps In Aga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35 the Supreme Court ruled in Norris v. Alabama that the convictions were wrong because it was not a jury of their peers, because there were no blacks on the jur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abama decided to try the defendants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ials last into the 1940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250px-Scottsboro_Mob_1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35920" y="4400640"/>
            <a:ext cx="2008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t All En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of the boys, Ozie Powell, Andy Wright, Clarence Norris, Haywood Paterson, and Charlie Weems are convicted and get long prison sent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drop the charges of four of the boys, Roy Wright, Eugene Williams, Olen Montgomery, and Willie Rob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orks Cite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 http://ghostdepot.com/rg/images/marshall%20route/marshall%20pass%20470%20locomotive%20passenger%20train%201931%20prn.jp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reme Court http://www.slowtrav.com/blog/chiocciola/washington_dc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 https://www.ftnewspaper.com/ftusa/gfx/worldmap.g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s http://www.english.illinois.edu/maps/poets/a_f/boyle/protestexhibit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ywood and crowd http://www.answers.com/topic/scottsboro-bo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ris http://www.pbs.org/wgbh/amex/scottsboro/peopleevents/p_norris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1931-- Alabam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boys (black and white) hitched a ride on a train. They were looking for wor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ight broke out and the white boys were shoved off the tra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rain arrived at the next station, the 9 black boys were arres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marshall%20pass%20470%20locomotive%20passenger%20train%201931%20prn"/>
          <p:cNvPicPr/>
          <p:nvPr/>
        </p:nvPicPr>
        <p:blipFill>
          <a:blip r:embed="rId1"/>
          <a:stretch/>
        </p:blipFill>
        <p:spPr>
          <a:xfrm>
            <a:off x="5257800" y="4438800"/>
            <a:ext cx="3886200" cy="2419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4572000"/>
            <a:ext cx="373392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09480" y="49528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do you think they were arrested f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AP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omen in another car on the train who had never seen the boys claimed that the 9 black boys raped them. The white boys who were thrown off confirmed this stor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wo women we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toria Price and Rub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175px-Bates%2C_Ruby_%26_Victoria_Pr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894120"/>
            <a:ext cx="3730680" cy="296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20968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: Ruby Bates &amp; Victoria Price in 193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Tr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ottsboro 9 went to trial.  They were represented by volunteer lawyers who were ill-equipp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though the evidence had holes in it, 8 were sentenced to death. One, Roy Wright, the youngest (13), was sentenced to life in pri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47920" y="4800600"/>
            <a:ext cx="624816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28800" y="5029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you think their trial was fai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ation Becomes Outrag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s of the injustices in the judicial system of the South reached the entire country and even across the glob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started letter writing campaigns, rallies, and marches. There were even demonstrations in Paris, Moscow, and South Afric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worldmap"/>
          <p:cNvPicPr/>
          <p:nvPr/>
        </p:nvPicPr>
        <p:blipFill>
          <a:blip r:embed="rId1"/>
          <a:stretch/>
        </p:blipFill>
        <p:spPr>
          <a:xfrm>
            <a:off x="3657600" y="4272120"/>
            <a:ext cx="4724280" cy="25858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5715000" y="480060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495680" y="4876920"/>
            <a:ext cx="22860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14800" y="4876920"/>
            <a:ext cx="304920" cy="30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5943600" y="6095880"/>
            <a:ext cx="22860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019920" y="472428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cotts01.jpg (46988 bytes)"/>
          <p:cNvPicPr/>
          <p:nvPr/>
        </p:nvPicPr>
        <p:blipFill>
          <a:blip r:embed="rId1"/>
          <a:stretch/>
        </p:blipFill>
        <p:spPr>
          <a:xfrm>
            <a:off x="0" y="0"/>
            <a:ext cx="4508640" cy="65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scotts02.jpg (50827 bytes)"/>
          <p:cNvPicPr/>
          <p:nvPr/>
        </p:nvPicPr>
        <p:blipFill>
          <a:blip r:embed="rId2"/>
          <a:stretch/>
        </p:blipFill>
        <p:spPr>
          <a:xfrm>
            <a:off x="4724280" y="228600"/>
            <a:ext cx="3429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scotts04.jpg (54419 bytes)"/>
          <p:cNvPicPr/>
          <p:nvPr/>
        </p:nvPicPr>
        <p:blipFill>
          <a:blip r:embed="rId1"/>
          <a:stretch/>
        </p:blipFill>
        <p:spPr>
          <a:xfrm>
            <a:off x="0" y="0"/>
            <a:ext cx="4575240" cy="6019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scotts03.jpg (45235 bytes)"/>
          <p:cNvPicPr/>
          <p:nvPr/>
        </p:nvPicPr>
        <p:blipFill>
          <a:blip r:embed="rId2"/>
          <a:stretch/>
        </p:blipFill>
        <p:spPr>
          <a:xfrm>
            <a:off x="4572000" y="0"/>
            <a:ext cx="452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otts05.jpg (55749 bytes)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written response to these reflection ques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Were the Scottsboro boys treated unfair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Why do you think people failed to treat the Scottsboro boys with just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redict how Alabama will respond to these rallies and protes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Predict what will happen to the boys. To Ruby Bates and Victoria Pri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6:33Z</dcterms:created>
  <dc:creator>stevens</dc:creator>
  <dc:description/>
  <dc:language>en-US</dc:language>
  <cp:lastModifiedBy>Hilary Wiltshire</cp:lastModifiedBy>
  <dcterms:modified xsi:type="dcterms:W3CDTF">2011-03-08T16:11:58Z</dcterms:modified>
  <cp:revision>9</cp:revision>
  <dc:subject/>
  <dc:title>Scottsboro Boys</dc:title>
</cp:coreProperties>
</file>